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6858000" cy="5486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ADFC3-D209-476D-A1B3-784212F1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2712F-B1C1-4511-8CCB-31947057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E251C-7070-4882-B325-515D9A65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75597-192C-4978-9C17-9A614B51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A46CE-A718-4565-B763-9D0D55C1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3A669-AD49-4EE8-8198-4BF8CCCA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4BC65-E086-4558-836F-50ED690C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58DA8-84B6-45C2-BB1E-5A760CC3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2AB3F-FD8F-4C74-A61F-A00EDB87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5464F-5C55-4F29-BDF1-7167D583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70A21-BFD4-4636-9A28-0477BE20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E2A39-C711-40CF-BBC1-2C36BE0F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C1C84-60D6-4D36-A871-6F4BDC33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7139A-3B16-4C2E-AD28-1857E644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BF7B5-2070-43CB-BF06-57DD4927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6F230-3A00-4BF8-8E36-1D72D89B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A1D81-830A-4E47-AD4B-F58E8095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638E9-E255-4311-82F6-59141E2E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8796B-0077-4FA7-9C91-0D5901C6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1D040-ED3C-4D35-AE1A-3ECB83E3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CCFB8-5054-4AF8-92D4-7A58BFBB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F254A-4F37-4DEB-AB83-10C42325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31474-769E-44ED-8B76-8EFC0A95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6BB50-0C5D-4D66-8FEB-662D127B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AC8CD-FCB5-43BC-81FB-27556A54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C02E0-FF73-4861-9CBB-F836F917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6AAB9-28BF-44CE-839C-AEAD155D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B77E4-1919-4D6A-87E2-557FD787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D8B01-E51E-4E11-AA96-E4451321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B3132-4328-48EC-8F95-F3FDDF56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940-C199-4914-9617-D988E2E7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BBFCE-5A4F-44B7-9C41-32F641CF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AC16C-E61B-4E1D-96C0-BA2244E6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93596-C50F-4B59-BF20-8036E8A5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48FAC-4BFB-4262-9A6A-38B7428A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54DCC-9C96-44A5-B780-01AF9835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F032E-457C-472C-A2A3-6F44E653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9F12A-BCB2-464E-91CD-BC8153BD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6E119-8AA6-409C-9BEF-AEC85F7F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FBC0D-E012-46FD-8014-D6BB01AC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E6E8A-0D9C-4FD7-8913-BF2C526D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F1B-22A8-4E68-AFDD-2F50007D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34686-FDA3-4C3F-B5FF-4622941A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E8C1D-9603-4B96-8B88-97160389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9FD1B-AB4B-47AD-AB56-16B259B9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53627-B730-4E92-9B3D-FA90ED6A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A7A0D-8B6C-4D75-9A56-EBB3079E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E2D-4655-4697-AB6D-606F48E3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018-F0F2-4250-BF30-24D5D3C2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5DF-E1F7-4504-9145-A0932B8E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FBE-E570-4DC8-B171-BD8126F3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C37-A7EE-439D-BB4E-12A6BC4E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6B7-A383-4549-9113-929E02AC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30F-DE30-4206-9394-65054BDD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DD2-CD5C-4EA3-8A29-0552D660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C84-3BCA-47F2-843B-D42FB335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29E-31B8-4A67-9987-C38AA07D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A048-60B6-49B9-B9C1-F64E90AB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AC88-2795-4321-B36E-7AD55583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BEA9-E4F9-45BB-8B7A-89E737EE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A39A-1CAC-4BA5-ACCD-BAA0B686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8D31-704A-4117-AB18-70E405A6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ECF2-C85C-4285-BE90-5BBBA7B9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7BF2-4253-4386-BB50-09B4A6B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1AC2-59E7-473A-BEFB-566E799B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D345-17C8-4EFF-8469-FC1736E6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836D-A6B0-4BAC-87D3-C7982ADB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31A0-D4C6-4E28-9D6B-73F04D87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7EA0-775C-4B40-962A-D1A8E23A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69DA-95BA-4AC0-B852-CC4A0C23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AA79F-15BB-4AE3-9AA6-2C098F9F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F6D5D-D7F5-4FC7-94FF-900CB0DA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C171-EF9A-490D-9B10-E38FC021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61F0D-80B6-4D99-AFE8-EB494FAF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0398A-3575-45AB-82A1-6A40E314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986E-4639-42E0-A6FC-7E6DA426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F2E93-0673-4A3D-BFD4-AB28CB80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8F4CE-9B82-48CA-8BC4-C044EA8F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BF5AD-C9B2-4614-B11D-BAE21163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85AD-593F-43F5-A79B-9C49B23B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24171-53BE-466C-905B-E6B58047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02DC1-8BDE-4E3A-ABBC-A9E6F5D3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C9502-C556-4223-85EE-7E0FB948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752D9-F1C7-475D-A4BD-C819B897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37C66-52D0-46D3-86C3-39836AD3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D0E64-4E9B-48BD-9BB5-F39C5FB5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3225E-6F4A-4988-B3DD-7DD2E62F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24901-B0C1-401D-A062-EAAC9D5A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45C48-44F1-45D5-8C24-E0C38C05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62377-7D1C-46C0-95E2-F5145262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9CB66-6FE8-4E09-996D-E5AA6916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9BCA4-6909-4AFB-B3E0-1FBE9121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52820-4354-4F8B-A65D-A1079B30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8F65E-A880-4F2B-AA9D-4FFF8708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B6469-D124-418F-9C5E-5FAFEB29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47505-FCAB-45C4-ADEA-68B335C9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2AE06-99A0-4C3B-B001-EA8A912D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053E2-0184-4EAD-ACE8-B2D1DA72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56D75-A492-4D19-B0DE-9C25CA60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9B530-2A4A-41D8-957C-DBF6F928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2A318-3490-4D86-B3AB-43366686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BC1D8-CEF9-41A2-B6AF-9137BB72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4C860-AB60-4900-819F-EAB4D7BB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0CA3A-20B8-4992-9F54-A7BE8352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7C001-3CE9-4158-AAB8-BCCE8AB1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FC338-6374-4A66-8638-1041E665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40CDC-1DC9-43C2-B491-AD40E02C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0772B-AC90-425A-BD30-EC92F1DD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723B0-5AB6-4D3B-9CAB-1DA4AEFB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BB9F4-B810-4235-B884-BA62A710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4DBDD-F495-44A2-BE32-15A650B1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BC75E-54FA-49AB-8A61-5EDBC5BB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963FA-F001-490B-AF96-6E9FB7EC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47D2C-6B0F-43FA-85C7-7B13F407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1C573-444E-455C-8967-FC4E0572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1A06B-04A0-4894-B419-7659E443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08F0F-FCE0-49D7-9691-8BB1EFCE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3B1D0-412E-4FF2-9F7B-8E19C1D5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B02EB-8E4B-4532-B795-4923CABE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17FA3-4C25-4329-A401-FCC04F36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015F2-D72F-443D-BA50-D71804A7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AFAC1-9ACE-4F91-9150-122829C9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36EBF-1046-4356-AC52-65881CB3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29EA6-8A17-491F-91CF-73AE6FF2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AFC7C-C43A-4243-B131-67D498F1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2B57D-95C5-46FF-AF65-DD5A1788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41D51-EEA3-42C8-9D14-C6FF1CCD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33E33-8DB5-4528-AD82-3E4D5563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6B505-0949-4BD9-9439-ED8A75A8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33BA8-D3C5-4E00-AC45-23FA6962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AEBBD-D6F1-4B83-ABC7-DA675C15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2626F-AB59-48F9-8208-CF4FFF8D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5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6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7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FF9514F2-F915-464B-BB86-09F152FD532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8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9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30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4180D189-1449-4E29-ADDF-AB576210C5C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31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32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3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0EC041E7-C42E-49C1-BF6D-45600B263A5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ReadyBizInvite_bkgd*.jpg"/>
          <p:cNvPicPr/>
          <p:nvPr/>
        </p:nvPicPr>
        <p:blipFill>
          <a:blip r:embed="rId3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D75926D7-3ED8-442B-924F-255E84DAD52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D77C2A30-03CD-4ADC-8348-5104C119DA1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DD7D79C1-A2BD-4712-ACAF-DC7FCE5318E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7054D1E4-916A-487F-B3A5-317F1599FE0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9A1E4298-207A-4209-9A33-AAD8D56C6EA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478717D6-E700-4BEE-BF7D-D0D202BEF92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A00BD141-79F9-4A30-B56D-7DC1231BE5B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9BECD85C-E0C2-4DDB-AA2C-11195288F64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tle 1"/>
          <p:cNvSpPr/>
          <p:nvPr/>
        </p:nvSpPr>
        <p:spPr>
          <a:xfrm>
            <a:off x="174600" y="184320"/>
            <a:ext cx="354168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elvetica Neue Light"/>
              </a:rPr>
              <a:t>[Insert Year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WORKSHOP SE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Placeholder 4"/>
          <p:cNvSpPr/>
          <p:nvPr/>
        </p:nvSpPr>
        <p:spPr>
          <a:xfrm>
            <a:off x="4143240" y="1611360"/>
            <a:ext cx="2306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y Business QuakeSmart Worksho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8"/>
          <p:cNvSpPr/>
          <p:nvPr/>
        </p:nvSpPr>
        <p:spPr>
          <a:xfrm>
            <a:off x="163440" y="2070000"/>
            <a:ext cx="3552840" cy="23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Identify Your Ris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rn about business continuity, disaster response, and the cost benefit of preparing for earthquakes and other business interrup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Develop a Pla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fy preparedness and mitigation actions needed to ensure safety and business continuity. Complete assessments and begin planning for retrofit project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Take 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rn how to perform preparedness and mitigation activities using Ready Busines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9"/>
          <p:cNvSpPr/>
          <p:nvPr/>
        </p:nvSpPr>
        <p:spPr>
          <a:xfrm>
            <a:off x="163440" y="1641600"/>
            <a:ext cx="35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Ready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[Insert Location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63440" y="1227240"/>
            <a:ext cx="3552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000" spc="-1" strike="noStrike">
                <a:solidFill>
                  <a:srgbClr val="458626"/>
                </a:solidFill>
                <a:latin typeface="Arial"/>
              </a:rPr>
              <a:t>JOIN 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1" descr="FLASH-horizontal-tagline-RGB.jpg"/>
          <p:cNvPicPr/>
          <p:nvPr/>
        </p:nvPicPr>
        <p:blipFill>
          <a:blip r:embed="rId1"/>
          <a:stretch/>
        </p:blipFill>
        <p:spPr>
          <a:xfrm>
            <a:off x="2747880" y="4830840"/>
            <a:ext cx="1387440" cy="485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DHS_FEMA Logo horizontal.eps"/>
          <p:cNvPicPr/>
          <p:nvPr/>
        </p:nvPicPr>
        <p:blipFill>
          <a:blip r:embed="rId2"/>
          <a:stretch/>
        </p:blipFill>
        <p:spPr>
          <a:xfrm>
            <a:off x="903240" y="4905360"/>
            <a:ext cx="1258920" cy="449280"/>
          </a:xfrm>
          <a:prstGeom prst="rect">
            <a:avLst/>
          </a:prstGeom>
          <a:ln w="0">
            <a:noFill/>
          </a:ln>
        </p:spPr>
      </p:pic>
      <p:sp>
        <p:nvSpPr>
          <p:cNvPr id="521" name="Text Placeholder 4"/>
          <p:cNvSpPr/>
          <p:nvPr/>
        </p:nvSpPr>
        <p:spPr>
          <a:xfrm>
            <a:off x="4135320" y="2239920"/>
            <a:ext cx="2305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[Insert Date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:00 a.m. – 3:00 p.m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Placeholder 4"/>
          <p:cNvSpPr/>
          <p:nvPr/>
        </p:nvSpPr>
        <p:spPr>
          <a:xfrm>
            <a:off x="4135320" y="2976480"/>
            <a:ext cx="2530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[Insert Workshop Loc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City, State Zip Code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 Placeholder 4"/>
          <p:cNvSpPr/>
          <p:nvPr/>
        </p:nvSpPr>
        <p:spPr>
          <a:xfrm>
            <a:off x="4135320" y="3897360"/>
            <a:ext cx="2530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orkshop is free, but registration is required. </a:t>
            </a: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Click her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"/>
          <p:cNvSpPr/>
          <p:nvPr/>
        </p:nvSpPr>
        <p:spPr>
          <a:xfrm>
            <a:off x="4302000" y="479268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Change out and ad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logos as need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22:44:12Z</dcterms:created>
  <dc:creator>AnnaK</dc:creator>
  <dc:description/>
  <dc:language>en-US</dc:language>
  <cp:lastModifiedBy>Sarah Chason</cp:lastModifiedBy>
  <dcterms:modified xsi:type="dcterms:W3CDTF">2017-02-10T17:22:25Z</dcterms:modified>
  <cp:revision>16</cp:revision>
  <dc:subject/>
  <dc:title>PowerPoint Presentation</dc:title>
</cp:coreProperties>
</file>